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03B-EDCC-403E-AE85-ACE0A623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6D8-8615-4299-8F42-C16026BC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426-7D03-40A7-A545-0D67C19F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D8A-883A-4089-B0BA-286539F7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56A-4A4F-47EC-919E-BBE6A03F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4C7-C11F-4953-A5E4-A358C35B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F06-1270-4971-B5F4-751C1236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D8E-F77C-418C-9B95-6C987773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A04-BCCA-4D68-9E66-45EEB3EF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8EE-4E07-489C-AA38-067C5762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52F-144E-42E5-8586-359F188E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D84-6953-40EA-B62E-FD73037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3DA8-ACF3-4F05-AF86-95FBD90971A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VA ALVORADA DO SUL – 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E. E. DELFINA N. DE SOUZA – EXTENSÃO PA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PROGETEC: APARECIDO RODRIGUES SANTA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MULTIPLICADORA: MARÍL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GED – NTE REG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ossibilidades de avaliação com uso das TIC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rabalho de pesquisa on line ou off line na STE em grupo, dupla e ou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bates, seminários, apresentações em Power Point com mediação do profess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Utilizar Movie Maker para fazer filmes com imagens ou fotografias do próprio contex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crição de duas situações de avaliaçã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 Produção Interativa os alunos do Ensino Médio do Campo fazem uma leitura interpretativa de temas do cotidiano e após essa leitura produzem textos com opiniões pessoais sobre o tema. Em seguida, escolhem uma música que condiz com o texto e produzem uma paródia que é apresentada a toda turma compostagens no facebook. Todo o processo é feito pelos alunos e o professor regente acompanha dando dicas e tirando dúvidas, a avaliação ocorre durante toda a ativida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 Eixos Temáticos:TVT os estudantes se reúnem por grupos de afinidades, fazem uma conversa do que eles tem de afinidades e de diferenças, escolhem uma música que mais identificam o grupo. Produzem slides para apresentação das afinidades e apresentam a música para toda a turm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rientações para melhorar a avaliação formativa com uso das TIC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senvolver atividades onde o aluno possa ser o autor/protagonista do process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dução de textos é uma ótima ferramenta, desde que os educand@s façam sem a ajuda e cópia de outros textos da interne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iação de vídeos e slides são também umas das opções interessantes para que educand@s aprendam a utilizar estas ferramenta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so de Vídeos e ou filmes também são importantes quando os professores utilizam nas  finalizações dos conteú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11:49:11Z</dcterms:created>
  <dc:creator>micro9</dc:creator>
  <dc:description/>
  <dc:language>en-US</dc:language>
  <cp:lastModifiedBy>MICRO-1</cp:lastModifiedBy>
  <dcterms:modified xsi:type="dcterms:W3CDTF">2015-09-02T19:16:10Z</dcterms:modified>
  <cp:revision>8</cp:revision>
  <dc:subject/>
  <dc:title>NOVA ALVORADA DO SUL – MS</dc:title>
</cp:coreProperties>
</file>